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7CBB91-953E-4FFE-B930-BCE5777E76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AF5CB2B1-C482-4DFC-B1BF-BC8199C086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F71A4B25-5315-401F-9A2C-9CE5754D1F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E9C7C447-69A6-44D8-BDC4-4D650FA678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65497654-9AC9-4FE9-810A-200D1CA6E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D0E2DAC4-1EB1-4121-97BB-BD936A06E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043DA624-98DF-43FF-A8F7-255772738A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38C4687-7905-4ADB-A539-F435518F7E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42FD7DDA-604F-4547-8DAB-0A43179F1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3DF4CD4E-FE9B-40CF-8A4D-439CAEFC3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F75904F2-9FE2-462E-8E89-248CEEC89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747ED713-92E6-44B1-BE43-A4C75BE80B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E991-4AB4-4D26-8485-FBC88ADA96A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24800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护理病历书写</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0" name=""/>
          <p:cNvSpPr txBox="1"/>
          <p:nvPr/>
        </p:nvSpPr>
        <p:spPr>
          <a:xfrm>
            <a:off x="304920" y="1214280"/>
            <a:ext cx="8610480" cy="503424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要求</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新入院患者当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手术患者的术前、手术当日即术后第</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稳定的一级护理患者每周至少记录</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3</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二级、三级护理患者至少每周记录</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危重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姓名、性别、年龄、科别、住院病历号（或病案号）、床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记录日期和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体温、脉搏、呼吸、血压、出入液量、皮肤情况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观察、护理措施和效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护士签名</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3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计划单 </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护理人员为患者在住院期间所制订的个体化护理计划及效果评价的全面、系统的记录</a:t>
            </a:r>
            <a:endParaRPr b="0" lang="en-US" sz="2800" spc="-1" strike="noStrike">
              <a:solidFill>
                <a:srgbClr val="1d149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8" name=""/>
          <p:cNvGraphicFramePr/>
          <p:nvPr/>
        </p:nvGraphicFramePr>
        <p:xfrm>
          <a:off x="324000" y="3645000"/>
          <a:ext cx="8675640" cy="2305080"/>
        </p:xfrm>
        <a:graphic>
          <a:graphicData uri="http://schemas.openxmlformats.org/drawingml/2006/table">
            <a:tbl>
              <a:tblPr/>
              <a:tblGrid>
                <a:gridCol w="585720"/>
                <a:gridCol w="2003400"/>
                <a:gridCol w="927000"/>
                <a:gridCol w="1465200"/>
                <a:gridCol w="836640"/>
                <a:gridCol w="979560"/>
                <a:gridCol w="1103400"/>
                <a:gridCol w="774720"/>
              </a:tblGrid>
              <a:tr h="849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理诊断</a:t>
                      </a:r>
                      <a:r>
                        <a:rPr b="0" lang="en-US" sz="2400" spc="-1" strike="noStrike">
                          <a:solidFill>
                            <a:srgbClr val="046ca6"/>
                          </a:solidFill>
                          <a:latin typeface="宋体"/>
                          <a:ea typeface="Times New Roman"/>
                        </a:rPr>
                        <a:t>/</a:t>
                      </a:r>
                      <a:r>
                        <a:rPr b="0" lang="zh-CN" sz="2400" spc="-1" strike="noStrike">
                          <a:solidFill>
                            <a:srgbClr val="046ca6"/>
                          </a:solidFill>
                          <a:latin typeface="宋体"/>
                          <a:ea typeface="Times New Roman"/>
                        </a:rPr>
                        <a:t>合作性问题</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预期目标</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 理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措 施</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停止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效果</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评价</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r>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r>
              <a:tr h="486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r>
            </a:tbl>
          </a:graphicData>
        </a:graphic>
      </p:graphicFrame>
      <p:sp>
        <p:nvSpPr>
          <p:cNvPr id="139" name="矩形 5"/>
          <p:cNvSpPr/>
          <p:nvPr/>
        </p:nvSpPr>
        <p:spPr>
          <a:xfrm>
            <a:off x="0" y="3203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Times New Roman"/>
              </a:rPr>
              <a:t>科室</a:t>
            </a:r>
            <a:r>
              <a:rPr b="0" lang="en-US" sz="1800" spc="-1" strike="noStrike">
                <a:solidFill>
                  <a:srgbClr val="046ca6"/>
                </a:solidFill>
                <a:latin typeface="Times New Roman"/>
                <a:ea typeface="Times New Roman"/>
              </a:rPr>
              <a:t>_____</a:t>
            </a:r>
            <a:r>
              <a:rPr b="0" lang="zh-CN" sz="1800" spc="-1" strike="noStrike">
                <a:solidFill>
                  <a:srgbClr val="046ca6"/>
                </a:solidFill>
                <a:latin typeface="Times New Roman"/>
                <a:ea typeface="Times New Roman"/>
              </a:rPr>
              <a:t>病室</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床号</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姓名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医疗诊断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住院号</a:t>
            </a:r>
            <a:r>
              <a:rPr b="0" lang="en-US" sz="1800" spc="-1" strike="noStrike">
                <a:solidFill>
                  <a:srgbClr val="046ca6"/>
                </a:solidFill>
                <a:latin typeface="Times New Roman"/>
                <a:ea typeface="Times New Roman"/>
              </a:rPr>
              <a:t>______</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4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教育计划</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意义</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教育是护理工作的重要组成部分，是促进病患者康复、恢复其健康水平的重要环节</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对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692aa2"/>
                </a:solidFill>
                <a:uFillTx/>
                <a:latin typeface="Arial"/>
                <a:ea typeface="宋体"/>
              </a:rPr>
              <a:t>实施内容</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者</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3" name="圆角矩形标注 1"/>
          <p:cNvSpPr/>
          <p:nvPr/>
        </p:nvSpPr>
        <p:spPr>
          <a:xfrm>
            <a:off x="3348000" y="3213000"/>
            <a:ext cx="5327640" cy="2519640"/>
          </a:xfrm>
          <a:prstGeom prst="wedgeRoundRectCallout">
            <a:avLst>
              <a:gd name="adj1" fmla="val -60458"/>
              <a:gd name="adj2" fmla="val -842"/>
              <a:gd name="adj3" fmla="val 16667"/>
            </a:avLst>
          </a:prstGeom>
          <a:gradFill rotWithShape="0">
            <a:gsLst>
              <a:gs pos="0">
                <a:srgbClr val="00538c"/>
              </a:gs>
              <a:gs pos="100000">
                <a:srgbClr val="0071bd"/>
              </a:gs>
            </a:gsLst>
            <a:lin ang="16200000"/>
          </a:gradFill>
          <a:ln w="9360">
            <a:solidFill>
              <a:srgbClr val="006ba6"/>
            </a:solidFill>
            <a:miter/>
          </a:ln>
          <a:effectLst>
            <a:outerShdw dist="23040" dir="5400000" blurRad="0" rotWithShape="0">
              <a:srgbClr val="000000">
                <a:alpha val="35000"/>
              </a:srgbClr>
            </a:outerShdw>
          </a:effectLst>
        </p:spPr>
        <p:style>
          <a:lnRef idx="0"/>
          <a:fillRef idx="0"/>
          <a:effectRef idx="0"/>
          <a:fontRef idx="minor"/>
        </p:style>
        <p:txBody>
          <a:bodyPr lIns="36000" rIns="36000" tIns="36000" bIns="36000" anchor="ctr">
            <a:noAutofit/>
          </a:bodyPr>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环境介绍与安全指导</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发生、发展及转归的相关知识</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治疗与护理措施及其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有关检查的目的和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饮食、活动等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康复知识与技能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a:t>
            </a:r>
            <a:r>
              <a:rPr b="0" lang="en-US" sz="3000" spc="-1" strike="noStrike">
                <a:solidFill>
                  <a:srgbClr val="161616"/>
                </a:solidFill>
                <a:latin typeface="Verdana"/>
                <a:ea typeface="宋体"/>
              </a:rPr>
              <a:t>nursing records</a:t>
            </a:r>
            <a:r>
              <a:rPr b="0" lang="zh-CN" sz="3000" spc="-1" strike="noStrike">
                <a:solidFill>
                  <a:srgbClr val="161616"/>
                </a:solidFill>
                <a:latin typeface="Verdana"/>
                <a:ea typeface="宋体"/>
              </a:rPr>
              <a:t>）</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指在临床护理活动中，有关患者的健康状况、所实施的护理措施及其效果等的全面系统的书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的作用与意义</a:t>
            </a:r>
            <a:endParaRPr b="0" lang="en-US" sz="3000" spc="-1" strike="noStrike">
              <a:solidFill>
                <a:srgbClr val="000000"/>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指导临床护理实践</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评价临床护理质量</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为护理教学与科研提供了宝贵的资源</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提供法律依据</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原则</a:t>
            </a:r>
            <a:endParaRPr b="0" lang="en-US" sz="3000" spc="-1" strike="noStrike">
              <a:solidFill>
                <a:srgbClr val="000000"/>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符合相关法律法规和行业标准</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有利于保护护患双方合法权益</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符合简化、实用的原则</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有利于体现护理行为的科学性、技术性和规范性，体现护理专业的特点和发展水平</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要求</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内容全面、真实</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描述精练、准确</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记录及时、规范</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填写完整，字迹清晰</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5.</a:t>
            </a:r>
            <a:r>
              <a:rPr b="0" lang="zh-CN" sz="2800" spc="-1" strike="noStrike">
                <a:solidFill>
                  <a:srgbClr val="1d1496"/>
                </a:solidFill>
                <a:latin typeface="Verdana"/>
                <a:ea typeface="宋体"/>
              </a:rPr>
              <a:t>护理病历的审查</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入院护理病历</a:t>
            </a:r>
            <a:endParaRPr b="0" lang="en-US" sz="3200" spc="-1" strike="noStrike">
              <a:solidFill>
                <a:srgbClr val="ffffff"/>
              </a:solidFill>
              <a:latin typeface="Verdana"/>
            </a:endParaRPr>
          </a:p>
        </p:txBody>
      </p:sp>
      <p:sp>
        <p:nvSpPr>
          <p:cNvPr id="115" name=""/>
          <p:cNvSpPr txBox="1"/>
          <p:nvPr/>
        </p:nvSpPr>
        <p:spPr>
          <a:xfrm>
            <a:off x="250920" y="1125000"/>
            <a:ext cx="8610480" cy="5032440"/>
          </a:xfrm>
          <a:prstGeom prst="rect">
            <a:avLst/>
          </a:prstGeom>
          <a:noFill/>
          <a:ln w="0">
            <a:noFill/>
          </a:ln>
        </p:spPr>
        <p:txBody>
          <a:bodyPr anchor="t">
            <a:normAutofit fontScale="91000"/>
          </a:bodyPr>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入院护理病历</a:t>
            </a:r>
            <a:endParaRPr b="0" lang="en-US" sz="3000" spc="-1" strike="noStrike">
              <a:solidFill>
                <a:srgbClr val="000000"/>
              </a:solidFill>
              <a:latin typeface="Verdana"/>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入院后首次进行的系统的健康评估记录</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般要求于患者入院后</a:t>
            </a:r>
            <a:r>
              <a:rPr b="0" lang="en-US" sz="2800" spc="-1" strike="noStrike">
                <a:solidFill>
                  <a:srgbClr val="1d1496"/>
                </a:solidFill>
                <a:latin typeface="Verdana"/>
                <a:ea typeface="宋体"/>
              </a:rPr>
              <a:t>24</a:t>
            </a:r>
            <a:r>
              <a:rPr b="0" lang="zh-CN" sz="2800" spc="-1" strike="noStrike">
                <a:solidFill>
                  <a:srgbClr val="1d1496"/>
                </a:solidFill>
                <a:latin typeface="Verdana"/>
                <a:ea typeface="宋体"/>
              </a:rPr>
              <a:t>小时内完成</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记录格式</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开放式、表格式、混合式</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资料</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辅助检查</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初步护理诊断</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1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在整个住院期间健康状况变化及护理过程的全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种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按病情轻重可分为</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患者护理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危重患者护理记录</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般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首次护理记录</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定义</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入院后的第一次护理记录</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要求</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对患者入院时的健康状况、所存在的主要护理诊断及拟实施的主要护理措施等做出简要的描述</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在当日（夜）班次内完成</a:t>
            </a:r>
            <a:endParaRPr b="0" lang="en-US" sz="26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主要内容</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的姓名、年龄、性别、主要的住院原因（包括主诉及医疗诊断）</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目前的主要症状、体征及重要的实验室及其他检查结果</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确立的主要护理诊断及拟实施的主要护理措施</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日常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的病情变化，包括症状、体征、实验室及其他检查结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所实施的护理措施及效果评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特殊检查与治疗的情况</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需特殊注意的问题等</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3:55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